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A4B-AE9D-4A20-BCAA-5AFD4744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E67-9FE2-4119-8D9B-80CDF034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A51-33D1-400A-89E4-A7A9B704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84D-FDB8-4FFE-A555-367B8702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9EE6-DA2B-4CBE-A958-6CDC6489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D540-C69B-44D8-A517-B5A2D317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802B-9D30-40D2-9FCF-2FA7A89A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F337-41F0-4CE9-B5F1-1E226012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6E8D-71B5-4BFA-A830-9AE1E01E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1323-0608-4C03-B843-B3E8FFD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7A10-9A44-4087-99BB-DA406035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E83-23E3-4D84-80FA-EB72A938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BFCC-5881-4647-AF45-E420B5E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C428-C77E-4216-A59B-C81C4D0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7396-4422-42DD-88C7-4DA7568A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7F1-6A4A-410B-90B0-49B7DD7A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76A5-FB25-495C-BF36-AC9F83E5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9C2-AB95-49A2-B74A-C71084E7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494-0743-46FE-B012-3AA0CB37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0BF-3671-4A25-BE78-199E2D19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54B-205E-477F-AACF-40640CED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67B-E8EA-4DA8-8DB4-296778A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BB6-54C4-44F7-9733-7EE0D55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0BB-0405-4CCB-AC41-F820F49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26D-8E7E-4CC1-8CA2-F2BEE3827B3C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1F8F-399C-4985-B2DB-44E954739F44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266480"/>
            <a:ext cx="73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thérapie d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s urinair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52992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 d’antibiothérapie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bjectifs de l'antibiothérap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bas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élevée d’antibiotique dans les ur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hau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parenchymateuse élevée et une élimination urinaire suffis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5800" y="2133720"/>
            <a:ext cx="8380800" cy="4647240"/>
            <a:chOff x="685800" y="2133720"/>
            <a:chExt cx="8380800" cy="4647240"/>
          </a:xfrm>
        </p:grpSpPr>
        <p:grpSp>
          <p:nvGrpSpPr>
            <p:cNvPr id="316" name=""/>
            <p:cNvGrpSpPr/>
            <p:nvPr/>
          </p:nvGrpSpPr>
          <p:grpSpPr>
            <a:xfrm>
              <a:off x="685800" y="2133720"/>
              <a:ext cx="4360320" cy="724320"/>
              <a:chOff x="685800" y="2133720"/>
              <a:chExt cx="4360320" cy="724320"/>
            </a:xfrm>
          </p:grpSpPr>
          <p:sp>
            <p:nvSpPr>
              <p:cNvPr id="317" name=""/>
              <p:cNvSpPr/>
              <p:nvPr/>
            </p:nvSpPr>
            <p:spPr>
              <a:xfrm>
                <a:off x="768240" y="2133720"/>
                <a:ext cx="41943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00" y="2133720"/>
                <a:ext cx="43603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6480" y="2133720"/>
              <a:ext cx="1339920" cy="724320"/>
              <a:chOff x="5046480" y="2133720"/>
              <a:chExt cx="1339920" cy="724320"/>
            </a:xfrm>
          </p:grpSpPr>
          <p:sp>
            <p:nvSpPr>
              <p:cNvPr id="320" name=""/>
              <p:cNvSpPr/>
              <p:nvPr/>
            </p:nvSpPr>
            <p:spPr>
              <a:xfrm>
                <a:off x="512892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1</a:t>
                </a:r>
                <a:r>
                  <a:rPr b="1" lang="en-US" sz="2000" spc="-1" strike="noStrike" baseline="30000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r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 épiso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64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386760" y="2133720"/>
              <a:ext cx="1339200" cy="724320"/>
              <a:chOff x="6386760" y="2133720"/>
              <a:chExt cx="1339200" cy="724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6920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récid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86760" y="2133720"/>
                <a:ext cx="133920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726680" y="2133720"/>
              <a:ext cx="1339920" cy="724320"/>
              <a:chOff x="7726680" y="2133720"/>
              <a:chExt cx="1339920" cy="724320"/>
            </a:xfrm>
          </p:grpSpPr>
          <p:sp>
            <p:nvSpPr>
              <p:cNvPr id="326" name=""/>
              <p:cNvSpPr/>
              <p:nvPr/>
            </p:nvSpPr>
            <p:spPr>
              <a:xfrm>
                <a:off x="7809840" y="2133720"/>
                <a:ext cx="117360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Hôpita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266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85800" y="2858400"/>
              <a:ext cx="4360320" cy="559800"/>
              <a:chOff x="685800" y="2858400"/>
              <a:chExt cx="4360320" cy="559800"/>
            </a:xfrm>
          </p:grpSpPr>
          <p:sp>
            <p:nvSpPr>
              <p:cNvPr id="329" name=""/>
              <p:cNvSpPr/>
              <p:nvPr/>
            </p:nvSpPr>
            <p:spPr>
              <a:xfrm>
                <a:off x="768240" y="28584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. col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800" y="28584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046480" y="2858400"/>
              <a:ext cx="1339920" cy="559800"/>
              <a:chOff x="5046480" y="2858400"/>
              <a:chExt cx="1339920" cy="559800"/>
            </a:xfrm>
          </p:grpSpPr>
          <p:sp>
            <p:nvSpPr>
              <p:cNvPr id="332" name=""/>
              <p:cNvSpPr/>
              <p:nvPr/>
            </p:nvSpPr>
            <p:spPr>
              <a:xfrm>
                <a:off x="512892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5-9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464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86760" y="2858400"/>
              <a:ext cx="1339200" cy="559800"/>
              <a:chOff x="6386760" y="2858400"/>
              <a:chExt cx="1339200" cy="559800"/>
            </a:xfrm>
          </p:grpSpPr>
          <p:sp>
            <p:nvSpPr>
              <p:cNvPr id="335" name=""/>
              <p:cNvSpPr/>
              <p:nvPr/>
            </p:nvSpPr>
            <p:spPr>
              <a:xfrm>
                <a:off x="646920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6760" y="28584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726680" y="2858400"/>
              <a:ext cx="1339920" cy="559800"/>
              <a:chOff x="7726680" y="2858400"/>
              <a:chExt cx="1339920" cy="559800"/>
            </a:xfrm>
          </p:grpSpPr>
          <p:sp>
            <p:nvSpPr>
              <p:cNvPr id="338" name=""/>
              <p:cNvSpPr/>
              <p:nvPr/>
            </p:nvSpPr>
            <p:spPr>
              <a:xfrm>
                <a:off x="7809840" y="28584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66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85800" y="3418920"/>
              <a:ext cx="4360320" cy="559800"/>
              <a:chOff x="685800" y="3418920"/>
              <a:chExt cx="4360320" cy="559800"/>
            </a:xfrm>
          </p:grpSpPr>
          <p:sp>
            <p:nvSpPr>
              <p:cNvPr id="341" name=""/>
              <p:cNvSpPr/>
              <p:nvPr/>
            </p:nvSpPr>
            <p:spPr>
              <a:xfrm>
                <a:off x="768240" y="34189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Proteus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5800" y="34189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046480" y="3418920"/>
              <a:ext cx="1339920" cy="559800"/>
              <a:chOff x="5046480" y="3418920"/>
              <a:chExt cx="1339920" cy="559800"/>
            </a:xfrm>
          </p:grpSpPr>
          <p:sp>
            <p:nvSpPr>
              <p:cNvPr id="344" name=""/>
              <p:cNvSpPr/>
              <p:nvPr/>
            </p:nvSpPr>
            <p:spPr>
              <a:xfrm>
                <a:off x="512892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3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464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386760" y="3418920"/>
              <a:ext cx="1339200" cy="559800"/>
              <a:chOff x="6386760" y="3418920"/>
              <a:chExt cx="1339200" cy="559800"/>
            </a:xfrm>
          </p:grpSpPr>
          <p:sp>
            <p:nvSpPr>
              <p:cNvPr id="347" name=""/>
              <p:cNvSpPr/>
              <p:nvPr/>
            </p:nvSpPr>
            <p:spPr>
              <a:xfrm>
                <a:off x="646920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9-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86760" y="34189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726680" y="3418920"/>
              <a:ext cx="1339920" cy="559800"/>
              <a:chOff x="7726680" y="3418920"/>
              <a:chExt cx="1339920" cy="559800"/>
            </a:xfrm>
          </p:grpSpPr>
          <p:sp>
            <p:nvSpPr>
              <p:cNvPr id="350" name=""/>
              <p:cNvSpPr/>
              <p:nvPr/>
            </p:nvSpPr>
            <p:spPr>
              <a:xfrm>
                <a:off x="7809840" y="34189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266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85800" y="3979440"/>
              <a:ext cx="4360320" cy="559800"/>
              <a:chOff x="685800" y="3979440"/>
              <a:chExt cx="4360320" cy="559800"/>
            </a:xfrm>
          </p:grpSpPr>
          <p:sp>
            <p:nvSpPr>
              <p:cNvPr id="353" name=""/>
              <p:cNvSpPr/>
              <p:nvPr/>
            </p:nvSpPr>
            <p:spPr>
              <a:xfrm>
                <a:off x="768240" y="39794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Klebsiella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5800" y="39794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046480" y="3979440"/>
              <a:ext cx="1339920" cy="559800"/>
              <a:chOff x="5046480" y="3979440"/>
              <a:chExt cx="1339920" cy="55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512892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&lt;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64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86760" y="3979440"/>
              <a:ext cx="1339200" cy="559800"/>
              <a:chOff x="6386760" y="3979440"/>
              <a:chExt cx="1339200" cy="5598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6920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6760" y="39794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726680" y="3979440"/>
              <a:ext cx="1339920" cy="559800"/>
              <a:chOff x="7726680" y="3979440"/>
              <a:chExt cx="1339920" cy="55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809840" y="39794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266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85800" y="4539600"/>
              <a:ext cx="4360320" cy="559800"/>
              <a:chOff x="685800" y="4539600"/>
              <a:chExt cx="4360320" cy="559800"/>
            </a:xfrm>
          </p:grpSpPr>
          <p:sp>
            <p:nvSpPr>
              <p:cNvPr id="365" name=""/>
              <p:cNvSpPr/>
              <p:nvPr/>
            </p:nvSpPr>
            <p:spPr>
              <a:xfrm>
                <a:off x="768240" y="45396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taphylococcus saprophyticu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5800" y="45396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46480" y="4539600"/>
              <a:ext cx="1339920" cy="559800"/>
              <a:chOff x="5046480" y="4539600"/>
              <a:chExt cx="1339920" cy="559800"/>
            </a:xfrm>
          </p:grpSpPr>
          <p:sp>
            <p:nvSpPr>
              <p:cNvPr id="368" name=""/>
              <p:cNvSpPr/>
              <p:nvPr/>
            </p:nvSpPr>
            <p:spPr>
              <a:xfrm>
                <a:off x="512892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464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386760" y="4539600"/>
              <a:ext cx="1339200" cy="559800"/>
              <a:chOff x="6386760" y="4539600"/>
              <a:chExt cx="1339200" cy="559800"/>
            </a:xfrm>
          </p:grpSpPr>
          <p:sp>
            <p:nvSpPr>
              <p:cNvPr id="371" name=""/>
              <p:cNvSpPr/>
              <p:nvPr/>
            </p:nvSpPr>
            <p:spPr>
              <a:xfrm>
                <a:off x="646920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86760" y="45396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26680" y="4539600"/>
              <a:ext cx="1339920" cy="559800"/>
              <a:chOff x="7726680" y="4539600"/>
              <a:chExt cx="1339920" cy="559800"/>
            </a:xfrm>
          </p:grpSpPr>
          <p:sp>
            <p:nvSpPr>
              <p:cNvPr id="374" name=""/>
              <p:cNvSpPr/>
              <p:nvPr/>
            </p:nvSpPr>
            <p:spPr>
              <a:xfrm>
                <a:off x="7809840" y="45396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266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85800" y="5100120"/>
              <a:ext cx="4360320" cy="559800"/>
              <a:chOff x="685800" y="5100120"/>
              <a:chExt cx="4360320" cy="559800"/>
            </a:xfrm>
          </p:grpSpPr>
          <p:sp>
            <p:nvSpPr>
              <p:cNvPr id="377" name=""/>
              <p:cNvSpPr/>
              <p:nvPr/>
            </p:nvSpPr>
            <p:spPr>
              <a:xfrm>
                <a:off x="768240" y="51001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nterococcus 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51001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046480" y="5100120"/>
              <a:ext cx="1339920" cy="559800"/>
              <a:chOff x="5046480" y="5100120"/>
              <a:chExt cx="1339920" cy="559800"/>
            </a:xfrm>
          </p:grpSpPr>
          <p:sp>
            <p:nvSpPr>
              <p:cNvPr id="380" name=""/>
              <p:cNvSpPr/>
              <p:nvPr/>
            </p:nvSpPr>
            <p:spPr>
              <a:xfrm>
                <a:off x="512892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464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5100120"/>
              <a:ext cx="1339200" cy="559800"/>
              <a:chOff x="6386760" y="5100120"/>
              <a:chExt cx="1339200" cy="559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6920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51001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726680" y="5100120"/>
              <a:ext cx="1339920" cy="559800"/>
              <a:chOff x="7726680" y="5100120"/>
              <a:chExt cx="1339920" cy="559800"/>
            </a:xfrm>
          </p:grpSpPr>
          <p:sp>
            <p:nvSpPr>
              <p:cNvPr id="386" name=""/>
              <p:cNvSpPr/>
              <p:nvPr/>
            </p:nvSpPr>
            <p:spPr>
              <a:xfrm>
                <a:off x="7809840" y="51001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266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85800" y="5660640"/>
              <a:ext cx="4360320" cy="559800"/>
              <a:chOff x="685800" y="5660640"/>
              <a:chExt cx="4360320" cy="559800"/>
            </a:xfrm>
          </p:grpSpPr>
          <p:sp>
            <p:nvSpPr>
              <p:cNvPr id="389" name=""/>
              <p:cNvSpPr/>
              <p:nvPr/>
            </p:nvSpPr>
            <p:spPr>
              <a:xfrm>
                <a:off x="768240" y="56606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Autres BGN </a:t>
                </a:r>
                <a:r>
                  <a:rPr b="1" lang="fr-FR" sz="1600" spc="-1" strike="noStrike">
                    <a:solidFill>
                      <a:srgbClr val="ffff99"/>
                    </a:solidFill>
                    <a:latin typeface="Arial"/>
                  </a:rPr>
                  <a:t>(klebsiella, enterobacter, serrati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5800" y="56606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046480" y="5660640"/>
              <a:ext cx="1339920" cy="559800"/>
              <a:chOff x="5046480" y="5660640"/>
              <a:chExt cx="1339920" cy="559800"/>
            </a:xfrm>
          </p:grpSpPr>
          <p:sp>
            <p:nvSpPr>
              <p:cNvPr id="392" name=""/>
              <p:cNvSpPr/>
              <p:nvPr/>
            </p:nvSpPr>
            <p:spPr>
              <a:xfrm>
                <a:off x="512892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464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386760" y="5660640"/>
              <a:ext cx="1339200" cy="559800"/>
              <a:chOff x="6386760" y="5660640"/>
              <a:chExt cx="1339200" cy="559800"/>
            </a:xfrm>
          </p:grpSpPr>
          <p:sp>
            <p:nvSpPr>
              <p:cNvPr id="395" name=""/>
              <p:cNvSpPr/>
              <p:nvPr/>
            </p:nvSpPr>
            <p:spPr>
              <a:xfrm>
                <a:off x="646920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6760" y="56606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726680" y="5660640"/>
              <a:ext cx="1339920" cy="559800"/>
              <a:chOff x="7726680" y="5660640"/>
              <a:chExt cx="1339920" cy="559800"/>
            </a:xfrm>
          </p:grpSpPr>
          <p:sp>
            <p:nvSpPr>
              <p:cNvPr id="398" name=""/>
              <p:cNvSpPr/>
              <p:nvPr/>
            </p:nvSpPr>
            <p:spPr>
              <a:xfrm>
                <a:off x="7809840" y="56606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266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85800" y="6221160"/>
              <a:ext cx="4360320" cy="559800"/>
              <a:chOff x="685800" y="6221160"/>
              <a:chExt cx="4360320" cy="559800"/>
            </a:xfrm>
          </p:grpSpPr>
          <p:sp>
            <p:nvSpPr>
              <p:cNvPr id="401" name=""/>
              <p:cNvSpPr/>
              <p:nvPr/>
            </p:nvSpPr>
            <p:spPr>
              <a:xfrm>
                <a:off x="768240" y="622116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Levu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622116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046480" y="6221160"/>
              <a:ext cx="1339920" cy="559800"/>
              <a:chOff x="5046480" y="6221160"/>
              <a:chExt cx="1339920" cy="559800"/>
            </a:xfrm>
          </p:grpSpPr>
          <p:sp>
            <p:nvSpPr>
              <p:cNvPr id="404" name=""/>
              <p:cNvSpPr/>
              <p:nvPr/>
            </p:nvSpPr>
            <p:spPr>
              <a:xfrm>
                <a:off x="512892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464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386760" y="6221160"/>
              <a:ext cx="1339200" cy="559800"/>
              <a:chOff x="6386760" y="6221160"/>
              <a:chExt cx="1339200" cy="559800"/>
            </a:xfrm>
          </p:grpSpPr>
          <p:sp>
            <p:nvSpPr>
              <p:cNvPr id="407" name=""/>
              <p:cNvSpPr/>
              <p:nvPr/>
            </p:nvSpPr>
            <p:spPr>
              <a:xfrm>
                <a:off x="646920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6760" y="622116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726680" y="6221160"/>
              <a:ext cx="1339920" cy="559800"/>
              <a:chOff x="7726680" y="6221160"/>
              <a:chExt cx="1339920" cy="559800"/>
            </a:xfrm>
          </p:grpSpPr>
          <p:sp>
            <p:nvSpPr>
              <p:cNvPr id="410" name=""/>
              <p:cNvSpPr/>
              <p:nvPr/>
            </p:nvSpPr>
            <p:spPr>
              <a:xfrm>
                <a:off x="7809840" y="622116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266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809640" y="2290320"/>
            <a:ext cx="81057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New York"/>
                <a:ea typeface="Times New Roman"/>
              </a:rPr>
              <a:t>	</a:t>
            </a:r>
            <a:r>
              <a:rPr b="0" lang="fr-FR" sz="3600" spc="-1" strike="noStrike">
                <a:solidFill>
                  <a:srgbClr val="ffff99"/>
                </a:solidFill>
                <a:latin typeface="New York"/>
                <a:ea typeface="Times New Roman"/>
              </a:rPr>
              <a:t>Fréquences des résistances bactériennes en ville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s-à-vi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icilline : 40-5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 : 25-40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xicilline-acide clavulanique : 30-40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ayant une élimination et une   concentration urinaire élevée (IU Bas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itrofu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ulf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quinolones de 1ère géné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osfomycine-tromé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1760" y="2106720"/>
            <a:ext cx="83055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Molécules ayant une concentration parenchymateuse et une élimination urinaire élev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mino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luoroquino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trimoxazole-trimetop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Béta-lactamines 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énicilline A et dérivés, carboxy-, uréïdo, amidinopénicil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éphalosporin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de 1ère, 2ème et 3ème gén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limy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colonisation urina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33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as de trait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le pati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t sondé ou non, diabétique, âgé ou avec une vessie neur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AUF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mes enceintes (toujo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péniques, immunodéprim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 préopératoire (chir. ou explorations urologique, pose de prothè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 avec prothèse articulaire, vasculaire ou cardiaque subissant des manœuvres invas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émie à BMR dans une unité hospital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YSTITES AIGUE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nventionnel (7 à 10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urt (3 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urée de 7 à 10 j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tibiotiques utilisé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nolone de 1ère géné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trofu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trimoxaz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éphalosporines 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moxicilline + acide clavula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440" y="1985760"/>
            <a:ext cx="83818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1ère intention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® 200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amoxiclav, AUGMENTIN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2nde in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ofurantoïne, FURADANTINE® 50 MG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e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é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Bactrim, quinolones uri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ère int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xacine, ENOXOR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MG 2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mefloxacine, LOGIFLOX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nde inten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3 cp en 1 prise un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Pour cotrimoxazole et quinolones le ttt court n’a pas d’avantage par rapport au t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court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8105760" cy="4496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olonisation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bactériurie asymptomatique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ésence de germes dans l’arbre urinaire sans manifestations cli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sondé un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fc/ml (= 100% des cas après 3 semaines de sond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non sondé présence de 2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fc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nfection urinair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u moins 1 des signes 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ièvre, impériosité mictionnelle, pollakiurie, brûlures mictionnelles ou douleurs sus-pubien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New York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1" lang="fr-FR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t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1 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CBU </a:t>
            </a:r>
            <a:r>
              <a:rPr b="1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+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oncentration bactérienn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fc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leucocyturi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ml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 positive suffit pour cystite aigüe simple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1 seule 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efficacité immédiate et retardée iden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éflacine monodose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800m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iprofloxacine (Uniflox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5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floxacine (Monoflocet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4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osfomycine-trométamol (Monuril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Uridoz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 sachet de 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minute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809280" y="2133360"/>
            <a:ext cx="833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 à 65 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fièvre ou de douleurs lomb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ymptomatologie récente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’uropathie (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reflux, méga-uretère, vessie neurologique, tumeur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grossesse en c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'intervention ou d'endoscopie urologique ré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pathologie sous-jacente (Diabète, immunosuppression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Dans tous les autres cas ou si échec du TT minute </a:t>
            </a:r>
            <a:r>
              <a:rPr b="0" lang="fr-FR" sz="3200" spc="-1" strike="noStrike">
                <a:solidFill>
                  <a:srgbClr val="ff66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TT conventi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609480"/>
            <a:ext cx="750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ditions d'utilisation du TT cou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t du TT min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ègles hygiéno-diétét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oujours associées au TT antibio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sson abondante et réguliè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tions réguliè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de sous-vêtements en co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ter les vêtements ser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 diarrhée et const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ilet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érinéa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’avant en arriè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stites aiguës récidivan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responsables en général plus résistants d'où nécessité d'un ECBU et d'un 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Traitement conventionnel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7-10 j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dapté à l’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puis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mesures préventiv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indispensab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ègles hygiéno-diété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tibioprophylax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prophylaxie des cystites récidiva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en prise 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= le soir au cou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dis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2 à 3 fois par sem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utilisé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8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trofurantoïne 50 à 1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éfalexine 2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nalidixique 5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pipémidique 2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rfloxacine 20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YELONEPHRITES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qu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056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luoroquinol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-lactam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minosid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ssibles en début de traitement pdt 48 à 72 heures en 1 dose 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14-21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Réévaluation secondaire du traitement en fonction de l'antibiogramme + ECBU de 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809280" y="26715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éfotaxime, CLAFORA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3x/j 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triaxone, ROCEPHINE</a:t>
            </a:r>
            <a:r>
              <a:rPr b="0" lang="de-DE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1x/j IV/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our en relais des voies IV et 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x 2/j PO ou IV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aiguës compliqué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280" y="213372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Uropathies malformatives, reflux vésico-urétéral, méga-uretère, obstacle sur les voies urinaire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bcès rénal ou pararé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Greffé, immunodéprimé, diabète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iden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3 semaines minimum (3-6 s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Bithérapie d'emblée comportant un amino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Traitement urologique associé si nécessair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drainage par néphrostomie ou abord chir. direct ; néphrectomie si pyonéphr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ROSTATI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guë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Times New Roman"/>
              </a:rPr>
              <a:t>IU nosocom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urvenue + de 48h après l’admission à l’Hô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ans so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vec sonde U (acquisition lors de la mise en place, par voie endoluminale ou extraluminale, hématogè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016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crobiologie des prostati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223308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rimitiv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= rarement M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. coli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C. trachoma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téroco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- U. urealytic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roteus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M. homi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taphylococc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ureus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Gonoco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ost-opératoir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Klebsiella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Pseudom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terobacter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Acinetob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erra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743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5262480"/>
            <a:ext cx="0" cy="106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des prostatites (1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Caractéristiques du traitem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posolubilité, pH basique et spectre d'activ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du traitement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aiguë : 4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chronique: 12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chémas thérapeutiqu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09640" y="190512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aiguë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 C3G +/- amino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cyclines (si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chroniqu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yclines (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S PARTICUL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me encei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 sur s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mes, e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emme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ceint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2214360"/>
            <a:ext cx="84582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s de schéma dose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tilisation des antibiotiques autorisé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péni, céphalosporines, nitrofuranes si 2ème trim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ctériurie asymptomatiqu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TT systématique de 10 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ystit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1,5 à 3,5%) : TT convent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Pyélonéphrites (1 à 2%)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privilégier les C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rès 1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ère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fection ou bactériurie asymptomatique, réaliser 1 ECBU/mois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dant toute la grosse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ection urinaire sur sond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as de traitement en l’absence de symptô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signes d'infection déclaré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raitement en fonction de la sensibilité des ge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 possible, arrêter le sondage; en cas d’impossibilité, changement de sonde sous traitement à disc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isolés :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E . coli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Entérocoque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P.aeruginos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Klebsiella sp, Enterobacter sp, Serratia sp, Candida s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évention des infections sur son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640" y="2900520"/>
            <a:ext cx="795816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ion asep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inuer le nombre et la durée des sondages uri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sation de sachet anti-reflu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 urinaire chez l’hom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érifier si atteinte primitive ou secondaire de la prostate (toucher rectal, écho. prosta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prostatite associée, durée du traitement adapt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buter un bilan urologique dès le premier épisode d’infection urinaire sans prostatite primi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IV, scanner rénal, épreuves uro-dynamiqu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2876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3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 aiguë simple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(non compliqu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-65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Hors grossesse, IU récidivante, uropathie, diabète, immunodépressi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iniqu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dysurie, pesanteur pelvienne, pollakiurie, pyurie, 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fièvre, douleurs lomb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ologi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U + (Nitrites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t/o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leucoc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CBU non indispens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tteinte du haut appareil possible dans 10 à 35% des cas surtout si évolution de la symptomatologie de plus de 7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s aiguës récidiv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us de 4 cystites par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épisodes rapprochés de – de 3 m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plique : - ECBU systématique (avant et après 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contre-indication 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bilan urologique (à distance de l’I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TT préventif des récid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Autres cystites compliqu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omme, enfant, grossesse, uropathie, immunodé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BU systématique, TT conventionnel, +/- bilan urolog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28760" y="91440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4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400" y="20905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"simples" ou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 : SFU + douleurs des fosses lomb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+ signes généraux (fièvre, friss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CBU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stacle sur les voies urinaires, uropat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cès parenchymateux ou pararé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statite aiguë ou chro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imitive ou post-opér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0824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5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haut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CLINIQUE  !!!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Bandelette 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valeur prédictive négative de 98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itrites reflets de la présence de bactéries productrices de nitrate réduct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B: Pas de nitrate réductase chez les cocci Gram + (Entérocoque, Staphylocoque), BGN aérobies (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Pseudomonas sp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Nitrites négatifs à la B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CB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coliformes) o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autres bacté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+ leucocyturi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yndrome inflammatoire biologiqu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CRP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, VS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Hyperleucocytose à P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Imageri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Echo +++, +/- doppler, scann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51055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52419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i IU ha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et iconographi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68360" y="2362320"/>
            <a:ext cx="3816360" cy="3352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42560" y="585612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nner ré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800600" y="2341440"/>
            <a:ext cx="38862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Critères de choix de l’antibiotiqu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veau d'infection bas ou ha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communautaire ou nosocomial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ype de germe en 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isolé ou récidivant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errain sous-ja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thologique : uropathie, sonde à deme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hysiologique : grossesse, homme, enf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20:55:34Z</dcterms:created>
  <dc:creator>remy</dc:creator>
  <dc:description/>
  <dc:language>en-US</dc:language>
  <cp:lastModifiedBy>NONNENMM</cp:lastModifiedBy>
  <dcterms:modified xsi:type="dcterms:W3CDTF">2009-03-23T07:58:26Z</dcterms:modified>
  <cp:revision>108</cp:revision>
  <dc:subject/>
  <dc:title>TRAITEMENT ANTIBIOTIQUE DES INFECTIONS URINAIRES </dc:title>
</cp:coreProperties>
</file>